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B638-F277-4C87-8CE2-8B5BA5BD31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C0BF-1971-4995-8D2B-A8B0A91727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96AD0-C763-4B8A-BED2-B73B3366AD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C7495-FB02-43E1-B2DE-ED0F1E32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9A43D-7DE3-420F-8C3F-54528221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8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3652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8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3652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F9065-4B9F-4380-9158-4E93636F6A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8F02A-E737-42D5-886F-F265C64159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C628F-E331-49C8-ACF6-3DEA3F13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32E42-8C19-4F2D-9872-A060B258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7E0E9-DD69-4141-ACA0-4EFC8984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7C96C-FDC6-4E63-89D1-D2EAA14E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37782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6CE0A-D80D-4D72-9DE5-9983F9C7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7A890-6E42-4DB3-860E-C402E595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BB003-24C5-45CE-9837-2C8D47C9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1899F-E8F6-417B-9768-68ADFAA9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7DC8D-B472-4718-9A94-7123C08E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D7B56-DA5E-4E6E-B832-2E4DBDBF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8EC3F-9A4F-4EB7-80C0-E2C4E118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0888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36520" y="14479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0888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36520" y="37562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22A1A-B8BD-4BE4-9B1F-CCB78CB1E9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78816-9C8E-446E-ADC1-86C251AA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8E811-3962-4534-8AB2-AC85C098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50DF0-AA59-4B2A-A386-C1BBD497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377820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D4B87-0085-4C45-8B78-049B7212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7FD48-A23D-4697-874C-B5C50326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63560" y="37562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E2DFA-C3F3-4F72-81CD-3EC61FD8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3560" y="14479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62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38F41-6B7D-431D-8A70-5A5588A9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5943600"/>
            <a:ext cx="1676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52920" y="5943600"/>
            <a:ext cx="838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C57A-599E-4C96-8E5F-85AA3D9ADB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304920" y="5943600"/>
            <a:ext cx="1676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8152920" y="5943600"/>
            <a:ext cx="838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88C5-EC02-4462-A048-8BFA314215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0" t="0" r="18374" b="0"/>
          <a:stretch/>
        </p:blipFill>
        <p:spPr>
          <a:xfrm>
            <a:off x="214200" y="704880"/>
            <a:ext cx="8929800" cy="61531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 rot="16200000">
            <a:off x="95040" y="680400"/>
            <a:ext cx="5605560" cy="579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217440" y="5516640"/>
            <a:ext cx="1069920" cy="741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179280" y="1717560"/>
            <a:ext cx="727416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"/>
              </a:rPr>
              <a:t>Financial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Month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aire Wil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ief Finance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016/17 – year end posi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16000" y="1844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iginal financial target for yea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£927k)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nus’ Sustainability funding received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509k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w financial targe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£418k)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"/>
          <p:cNvSpPr/>
          <p:nvPr/>
        </p:nvSpPr>
        <p:spPr>
          <a:xfrm>
            <a:off x="6545160" y="2637000"/>
            <a:ext cx="15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5-Point Star 5"/>
          <p:cNvSpPr/>
          <p:nvPr/>
        </p:nvSpPr>
        <p:spPr>
          <a:xfrm>
            <a:off x="7956720" y="3500280"/>
            <a:ext cx="287280" cy="231840"/>
          </a:xfrm>
          <a:custGeom>
            <a:avLst/>
            <a:gdLst/>
            <a:ahLst/>
            <a:rect l="l" t="t" r="r" b="b"/>
            <a:pathLst>
              <a:path w="288032" h="231867">
                <a:moveTo>
                  <a:pt x="0" y="88565"/>
                </a:moveTo>
                <a:lnTo>
                  <a:pt x="110019" y="88566"/>
                </a:lnTo>
                <a:lnTo>
                  <a:pt x="144016" y="0"/>
                </a:lnTo>
                <a:lnTo>
                  <a:pt x="178013" y="88566"/>
                </a:lnTo>
                <a:lnTo>
                  <a:pt x="288032" y="88565"/>
                </a:lnTo>
                <a:lnTo>
                  <a:pt x="199024" y="143301"/>
                </a:lnTo>
                <a:lnTo>
                  <a:pt x="233023" y="231866"/>
                </a:lnTo>
                <a:lnTo>
                  <a:pt x="144016" y="177129"/>
                </a:lnTo>
                <a:lnTo>
                  <a:pt x="55009" y="231866"/>
                </a:lnTo>
                <a:lnTo>
                  <a:pt x="89008" y="143301"/>
                </a:lnTo>
                <a:lnTo>
                  <a:pt x="0" y="8856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71748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016/17 continued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26920" y="1267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ancial positi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1,183k surp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chnical adjustments ‘added back’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(1,575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ancial position against targe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£(392k) defic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 we hit our targ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5-Point Star 5"/>
          <p:cNvSpPr/>
          <p:nvPr/>
        </p:nvSpPr>
        <p:spPr>
          <a:xfrm>
            <a:off x="6770520" y="3435480"/>
            <a:ext cx="346320" cy="314280"/>
          </a:xfrm>
          <a:custGeom>
            <a:avLst/>
            <a:gdLst/>
            <a:ahLst/>
            <a:rect l="l" t="t" r="r" b="b"/>
            <a:pathLst>
              <a:path w="344812" h="313349">
                <a:moveTo>
                  <a:pt x="0" y="119688"/>
                </a:moveTo>
                <a:lnTo>
                  <a:pt x="131707" y="119689"/>
                </a:lnTo>
                <a:lnTo>
                  <a:pt x="172406" y="0"/>
                </a:lnTo>
                <a:lnTo>
                  <a:pt x="213105" y="119689"/>
                </a:lnTo>
                <a:lnTo>
                  <a:pt x="344812" y="119688"/>
                </a:lnTo>
                <a:lnTo>
                  <a:pt x="238258" y="193660"/>
                </a:lnTo>
                <a:lnTo>
                  <a:pt x="278959" y="313348"/>
                </a:lnTo>
                <a:lnTo>
                  <a:pt x="172406" y="239376"/>
                </a:lnTo>
                <a:lnTo>
                  <a:pt x="65853" y="313348"/>
                </a:lnTo>
                <a:lnTo>
                  <a:pt x="106554" y="193660"/>
                </a:lnTo>
                <a:lnTo>
                  <a:pt x="0" y="11968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95280" y="2462040"/>
            <a:ext cx="493560" cy="493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4356000" y="4581360"/>
            <a:ext cx="17416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782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016/17 – year end posi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1415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ol Total Target m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gency costs £1.59m compared to £2.2m cei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st Improvement Programme - £2.5m saved against £3.7m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spend £5.9m spend in line with Trusts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647640" cy="773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311040" y="2347920"/>
            <a:ext cx="647640" cy="773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355680" y="4653000"/>
            <a:ext cx="647640" cy="77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255600" y="371628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e Louise</dc:creator>
  <dc:description/>
  <dc:language>en-US</dc:language>
  <cp:lastModifiedBy>Wilson Claire (RBQ)</cp:lastModifiedBy>
  <cp:lastPrinted>2014-02-19T14:11:01Z</cp:lastPrinted>
  <dcterms:modified xsi:type="dcterms:W3CDTF">2017-05-31T17:36:27Z</dcterms:modified>
  <cp:revision>264</cp:revision>
  <dc:subject/>
  <dc:title>Chief Executive’s  Team Brief or longer heading</dc:title>
</cp:coreProperties>
</file>